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camera.wav" ContentType="audio/x-wav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121-5E44-4B61-B43C-C08D28EF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2B3C-F6D3-43AC-A70A-D5514E70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FAE-DCB5-44C8-91CF-00521577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EF0-768F-4E16-94CD-055077B5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770F-9B96-4A6D-94D7-6178A9C8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4981-148D-4C18-8455-FEDC533C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6B86-BA3B-49FA-B640-640A4756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8E16-7C4D-4289-8E9E-A8A28E46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50D6-9315-4569-9B05-10108F60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8D78-C3CF-4858-BF95-E972DEF5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E846-E857-4D66-88B3-7306E1AD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5A6-0E94-434B-9BBD-9CE816FF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C64A-59BB-4A9C-B623-98C0917D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D2E5-49A1-49BA-BD2E-5489B655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4DBE-AD39-44BA-A225-CF1CDF19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FED1-74BA-487B-AC99-57346214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0CEA-6F7A-4F7B-A991-8DD34522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D38CD-E294-45C2-AE8A-042C610D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C6CE4-513A-49BB-A57A-EF26CA36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CA8F5-DEDD-45BA-83F8-38BA1B3D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603DC-3D54-47D0-9520-3B825FAC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294F6-3F8B-468C-BBF9-488FBD9C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F22-0ED0-4E88-8B96-A1E054F2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596EF-8754-4D56-995A-A2CF6C0D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D986B-E2CC-4358-A39B-FF5FE25E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DCCA-3A11-4259-B7F2-A7013E7B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00B23-4667-4928-BF68-F6492DE2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E5B5-26D8-4910-BC76-F0A305BB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49075-4138-41FD-8DB8-4E563F18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EAC41-2B48-43CA-8967-4490194F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06ECB-0A00-4E22-AB47-E2CA5E4A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4619A-F8BE-4615-A9C6-39F0A03C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03F8D-C218-4D3F-AB77-86E23F1E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DAC-EB29-48CF-99E0-D29C21A6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3A7ED-06F4-483F-825D-A4710BDC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97B5E-6E33-426E-9DD7-0CD7267C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3C392-ACB9-4E7F-B674-E3A0D161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318DE-FCE5-42D1-B40E-48376A4B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DBF4F-112F-4F01-9206-AC69B8F7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141E6-6A62-45B1-AA43-AA51CF38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38A1C-EDF2-405B-BEC8-D2AC513F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8CDD0-B170-429B-8054-A2383603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07FA4-88D8-4337-A97C-1C0ECA7A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52B-0BD7-4751-9EFA-9AD7DC35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D8CD-1202-41DF-B048-D890922D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D7A-9EA1-45B8-BF6F-C5F570B8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05E-FC81-4AD0-804B-1A7D7BE8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3E98-DDED-474D-A2D4-DAF74691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E0A8-732A-41D1-AB41-AD13EC70844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37C0-AAD1-40AB-987B-85034FA2150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8F02-0038-43C3-9CFC-6A86FBDB23E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B01A-8C00-4A5D-AC70-F1C436AA8F9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74680" y="1133640"/>
            <a:ext cx="8820000" cy="2431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4" descr="C:\Program Files\Microsoft Office\MEDIA\CAGCAT10\j0301252.wmf"/>
          <p:cNvPicPr/>
          <p:nvPr/>
        </p:nvPicPr>
        <p:blipFill>
          <a:blip r:embed="rId1"/>
          <a:stretch/>
        </p:blipFill>
        <p:spPr>
          <a:xfrm>
            <a:off x="6143760" y="4429080"/>
            <a:ext cx="2247840" cy="1922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згадайте кроссворд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286000" y="1000080"/>
          <a:ext cx="5286240" cy="3000600"/>
        </p:xfrm>
        <a:graphic>
          <a:graphicData uri="http://schemas.openxmlformats.org/drawingml/2006/table">
            <a:tbl>
              <a:tblPr/>
              <a:tblGrid>
                <a:gridCol w="414360"/>
                <a:gridCol w="466560"/>
                <a:gridCol w="439920"/>
                <a:gridCol w="441360"/>
                <a:gridCol w="439560"/>
                <a:gridCol w="441360"/>
                <a:gridCol w="441360"/>
                <a:gridCol w="439920"/>
                <a:gridCol w="441000"/>
                <a:gridCol w="439920"/>
                <a:gridCol w="441360"/>
                <a:gridCol w="439560"/>
              </a:tblGrid>
              <a:tr h="428760"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5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6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81"/>
          <p:cNvSpPr/>
          <p:nvPr/>
        </p:nvSpPr>
        <p:spPr>
          <a:xfrm>
            <a:off x="214200" y="404568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горизонт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Сумма длин сторон геометрическ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Инструмент для измерения длины отрез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авило, записанное с помощью бук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ойденный пу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Арифметическое действ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Число, на которое нельзя де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те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571760"/>
          <a:ext cx="8472600" cy="4503600"/>
        </p:xfrm>
        <a:graphic>
          <a:graphicData uri="http://schemas.openxmlformats.org/drawingml/2006/table">
            <a:tbl>
              <a:tblPr/>
              <a:tblGrid>
                <a:gridCol w="706320"/>
                <a:gridCol w="551160"/>
                <a:gridCol w="860400"/>
                <a:gridCol w="706320"/>
                <a:gridCol w="706320"/>
                <a:gridCol w="706680"/>
                <a:gridCol w="704520"/>
                <a:gridCol w="706680"/>
                <a:gridCol w="706320"/>
                <a:gridCol w="706320"/>
                <a:gridCol w="704880"/>
                <a:gridCol w="706680"/>
              </a:tblGrid>
              <a:tr h="650880"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5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6 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6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стный сч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и вычислите: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! = 3 · 2 · 1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! =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! =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! =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920" y="7045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акие измерения надо провести, чтобы найти площадь прямоугольника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                       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       </a:t>
            </a: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 = a · b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Прямоугольник 3"/>
          <p:cNvSpPr/>
          <p:nvPr/>
        </p:nvSpPr>
        <p:spPr>
          <a:xfrm>
            <a:off x="1714680" y="2643120"/>
            <a:ext cx="5500440" cy="200016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3840" y="1643040"/>
            <a:ext cx="86439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Площадь квадрата равна квадрату его стороны: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                  </a:t>
            </a: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a                               </a:t>
            </a: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</a:t>
            </a:r>
            <a:r>
              <a:rPr b="0" i="1" lang="ru-RU" sz="6000" spc="-1" strike="noStrike">
                <a:solidFill>
                  <a:srgbClr val="ff0000"/>
                </a:solidFill>
                <a:latin typeface="Constantia"/>
              </a:rPr>
              <a:t> = а</a:t>
            </a:r>
            <a:r>
              <a:rPr b="0" i="1" lang="ru-RU" sz="6000" spc="-1" strike="noStrike" baseline="30000">
                <a:solidFill>
                  <a:srgbClr val="ff0000"/>
                </a:solidFill>
                <a:latin typeface="Constanti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                            </a:t>
            </a: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Прямоугольник 3"/>
          <p:cNvSpPr/>
          <p:nvPr/>
        </p:nvSpPr>
        <p:spPr>
          <a:xfrm>
            <a:off x="2786040" y="3000240"/>
            <a:ext cx="2143080" cy="20718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 u="sng">
                <a:solidFill>
                  <a:srgbClr val="04617b"/>
                </a:solidFill>
                <a:uFillTx/>
                <a:latin typeface="Calibri"/>
              </a:rPr>
              <a:t>Свойства площадей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400" y="119664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786240" indent="-78624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Площади равных фигур равны.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Их периметры тоже равн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 algn="ctr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 algn="ctr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1 = S2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 = </a:t>
            </a: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Равнобедренный треугольник 3"/>
          <p:cNvSpPr/>
          <p:nvPr/>
        </p:nvSpPr>
        <p:spPr>
          <a:xfrm>
            <a:off x="714240" y="2571840"/>
            <a:ext cx="2928960" cy="23572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Равнобедренный треугольник 4"/>
          <p:cNvSpPr/>
          <p:nvPr/>
        </p:nvSpPr>
        <p:spPr>
          <a:xfrm>
            <a:off x="5072040" y="2428920"/>
            <a:ext cx="2928960" cy="2357280"/>
          </a:xfrm>
          <a:prstGeom prst="triangle">
            <a:avLst>
              <a:gd name="adj" fmla="val 50000"/>
            </a:avLst>
          </a:prstGeom>
          <a:solidFill>
            <a:srgbClr val="55a83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4617b"/>
                </a:solidFill>
                <a:uFillTx/>
                <a:latin typeface="Calibri"/>
              </a:rPr>
              <a:t>Свойства площадей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2. Площадь всей фигуры равна сумме площадей ее часте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 = S1 + S2 + S3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1214280" y="3286080"/>
            <a:ext cx="1714680" cy="1857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2928960" y="3286080"/>
            <a:ext cx="1714320" cy="1857600"/>
          </a:xfrm>
          <a:prstGeom prst="rect">
            <a:avLst/>
          </a:prstGeom>
          <a:solidFill>
            <a:srgbClr val="10cf9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4643280" y="3286080"/>
            <a:ext cx="1714680" cy="1857600"/>
          </a:xfrm>
          <a:prstGeom prst="rect">
            <a:avLst/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м итоги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Запишите формулу площади прямоугольни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Запишите формулу площади квадрат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Какие свойства площадей вы запомнили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4:26:00Z</dcterms:created>
  <dc:creator>Admin</dc:creator>
  <dc:description/>
  <dc:language>en-US</dc:language>
  <cp:lastModifiedBy>Макаров</cp:lastModifiedBy>
  <dcterms:modified xsi:type="dcterms:W3CDTF">2012-12-03T05:02:39Z</dcterms:modified>
  <cp:revision>14</cp:revision>
  <dc:subject/>
  <dc:title>08.12</dc:title>
</cp:coreProperties>
</file>